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2E1-DE63-465F-85D8-9C8DC1A3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563-CD0C-47F9-AA1F-309B4ACF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2A2-E6FE-4CB2-91B0-57749DA1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B48-83A5-4059-BD14-73481EB5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237-1582-4A4B-BCBD-B3A0180A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3D0-78C7-4376-B117-55B89603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436-C3B3-4667-9E05-E5482261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E60-DEB7-4684-BA94-DDF44044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99B-3A62-4679-8D03-BBC8C4F0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EAD-A431-49D8-9376-9452FD38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71A-7061-4399-ABC6-8E05C74F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A39-560F-4413-91EF-1B43A824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0555-93E6-4D0E-A2CA-13C1D66FB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INIÓN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vía para acceder a la verdad sobre algún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QUE LA OPINIÓN PÚBLICA SE DE, SE NECESIT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ambio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álogo entre dos o más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TERVENCIÓN DE LOS MEDIOS EN LA O.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medios de comunicación, ya sean visuales o audiovisuales, influyen en el individuo diciéndoles no en que pensar, sino sobre en que pensar, esto es conocido como la teoría “agenda setting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O.P. siempre será manipulable, dependiendo de la fuerza y credibilidad que el receptor tenga con el emisor, también de las características que el mismo mensaje tenga, como por ejemplo la calidad de los argumentos, la claridad y organización en la exposición, el énfasis del mensaje, imágen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7:27:36Z</dcterms:created>
  <dc:creator>MAD</dc:creator>
  <dc:description/>
  <dc:language>en-US</dc:language>
  <cp:lastModifiedBy>MAD</cp:lastModifiedBy>
  <dcterms:modified xsi:type="dcterms:W3CDTF">2009-09-20T18:17:54Z</dcterms:modified>
  <cp:revision>2</cp:revision>
  <dc:subject/>
  <dc:title>OPINIÓN PÚBLICA</dc:title>
</cp:coreProperties>
</file>